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C5F-82CE-486A-8687-D534EA8D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424-E9AF-4C18-9BEC-BBA7BB4A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1BD-B589-440B-B6F9-2FF484C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B8F-C0CC-4680-9ABD-C2B40773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640-8DF6-41B5-B5ED-A83E5378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843-EB80-4F28-98DF-DD6AFF1E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2F2-E695-4F85-92FA-0CC0D2F8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977-DC9B-4129-AD66-7DCE5264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955-CE12-4316-AF91-A341EEA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165-858E-47B6-813C-15949E7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3B6-3CBD-4C22-9013-C8BF172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B8E-55A1-40B9-9E17-D492CEE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A3E1-0AB5-4E7B-A3BE-A43001C0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cognitives glob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= 14/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96= 40/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335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PSYCHOMETRIE 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743200"/>
          <a:ext cx="761976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61976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60680" y="609480"/>
          <a:ext cx="5821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609480"/>
                    <a:ext cx="5821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8440" y="541440"/>
          <a:ext cx="8515440" cy="60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541440"/>
                    <a:ext cx="851544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littérale : Mots commençant par « S » en une minute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quences motrices de Luria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éfic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conflictuell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: suit le rythme de l’exam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reuve Go-No-Go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,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débu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 le rythme de l’examinateur, répond ensuite systématiquement par 4 ou 5 frap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tention 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tage à rebours de 20 à 0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ficitaire : se perd et compte en ord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ocation des mois de l’année à rebours 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dro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v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11200"/>
          <a:ext cx="825192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11200"/>
                    <a:ext cx="825192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14400" y="57150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 intrusions et 14 réponses persévé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228600"/>
          <a:ext cx="838044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moire sémant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catégorielle de la BEC96 : animaux en 1 min : 3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euve de dénomination de la BEC96 : 11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ha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 : Expression : manque du m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éhension simple préservée mais des difficultés apparaissent lors de consignes plus compl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r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riture correc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gno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s couleur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 figures enchevêtrée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rax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xies constructiv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ons incomplètes et déstructu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METRIE PSYCHOPATHOLOGIQUE ET NON-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de dépressi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RS=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3:02Z</dcterms:created>
  <dc:creator>claire</dc:creator>
  <dc:description/>
  <dc:language>en-US</dc:language>
  <cp:lastModifiedBy>claire</cp:lastModifiedBy>
  <dcterms:modified xsi:type="dcterms:W3CDTF">2004-05-09T16:23:13Z</dcterms:modified>
  <cp:revision>15</cp:revision>
  <dc:subject/>
  <dc:title>Présentation PowerPoint</dc:title>
</cp:coreProperties>
</file>